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7677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720" y="6237360"/>
            <a:ext cx="16765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12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33720" y="6248520"/>
            <a:ext cx="5029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LF International Technical Conferece, Yokohama,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15200" y="6248520"/>
            <a:ext cx="11430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25A3E555-2705-47A9-80FD-88CFE6A2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754360"/>
            <a:ext cx="77724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tawa Linux Symposium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 Linux F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5221440"/>
            <a:ext cx="8398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ny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are not attend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are published after the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proceedings 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inuxsymposium.org/proceedings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just read papers, but also note authors and their writings on web and on LK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commen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ally send patches, if you hav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ing for 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’s evil pla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hard push in next 4 week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CE issues on relevant mailing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p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if the patches are not ready, you can send a “Request for Comme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good demos for 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flood community with CE-related discussions an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makes a “good” OLS dem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be a sales pitch for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’s good to show a product or board and describe how Linux was adapted for o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should b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e something interesting or surprising from C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is to raise awareness of CE issues, and help change perspective of non-CE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from this Co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good issues raised at confe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needs of embedded that influenced design decisions for Qt Embedded and DirectF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issues with cross-compilation of packages (which DeviceLinux and OpenEmbedded handle in different w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list of specific issues adapting Linux to a cell 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’s have fu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7767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ll see you out on the community lis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tawa Linux Sympos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ere technical conference for Linux kernel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d annually in Ottawa, Canada, in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year it’s July 20-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gathering of many important Linux developers, maintainer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es it ma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place for people to meet face-to-face to discuss roadmap of Linu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similar 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DEM (Free and Open Source Developers’ European Mee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Con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Technical Co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F involvement with 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is a sponsor of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donates prizes to be handed out at the final key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st, CELF has given presentations, Bird’s of a Feather (BOF)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planning to show demos of CE projects at the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es CELF benefit from O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 Linux developers can attend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developers and their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mportantly, is a place to influence other kernel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can also influence kernel developers during the run-up to the conferenc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even if you can’t attend, you can hel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ending OLS –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S is about personal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resentations are not focused on embe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d of warning: expect flame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ry hard to meet people in you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d presentations, make note of who is presenting, and who is ask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questions your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people in the hall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 yourself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d BOFs (Birds of a Feather Se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just go back to the hotel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eople for me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 along if you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ing someone in person helps with your comfort level on mail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imple requ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talk to people about C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ck comment on Fl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developers are nice and court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evelopers have deep anti-commercial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way to defuse a flame is say “I’m here to learn how to participate bet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5-06-14T06:31:12Z</dcterms:modified>
  <cp:revision>8</cp:revision>
  <dc:subject/>
  <dc:title>Slide 1</dc:title>
</cp:coreProperties>
</file>